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770-EBFC-4C82-B497-4B28E932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86B-F002-4318-A60F-1B1AA3DA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5C3-05F9-4E00-8729-4BA0EA8B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724-19D6-4A7C-A1D1-40A80A71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6F01-E867-47F9-BC78-D9830A67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9C65-2264-4CB4-B885-4F9453E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412D-52F0-4C9A-88A0-266FAF25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BCCB-100C-422D-AB9E-C4D94BA4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6921-CB2B-481F-B90D-CB4B135F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D667-68B4-4E89-8B5A-B068E35A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FE8F-D5BA-473F-9975-C9FA23F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D66-47BA-43A1-946F-F0CB515A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B75-142F-45AC-BBC3-1A82D662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D6D4-2DC8-4FE1-81D1-498C6A4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51D4-C38F-4688-90E8-2EDA4A09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8D0E-310D-4E12-8D90-78480FFB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A473-D829-46F4-8EF4-6824B2F6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D44-7C99-400D-BB51-E68E7C63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D18-4992-4C59-A631-A7B925E1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4A9-1B59-453A-9C27-A494FB19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FE3-738C-4E82-A02C-BF603670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16A-3C43-4F14-B230-67E58463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3E9-CA57-4C2C-973B-063892E7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8C5-5CA5-4452-80BA-C9643B1B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1B5-B5F1-4077-97CA-C9357C731F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A121-6598-4D47-A8D1-B89B2C0EED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1240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Volcanic Activity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P Book Chapter 18, pg. 470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pplied Book Chapter 12, pg. 334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62720" y="393840"/>
            <a:ext cx="286056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omposite Volcano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St. Helens (foregro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Raini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ackgro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Fu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62520" y="2895480"/>
            <a:ext cx="47750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Magm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05320" y="2552760"/>
            <a:ext cx="56131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Ring of Fir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895400"/>
            <a:ext cx="8136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ypes of Magm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077320" cy="272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48440" y="185724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tic, Andesitic and Rhyoli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natomy of a Volcan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a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de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5422680" cy="270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57800" y="1600200"/>
            <a:ext cx="3505320" cy="284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1720" y="582444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ter nea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taff, Ariz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63480" y="2130480"/>
            <a:ext cx="180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ter Lake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aldera crea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eruptions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 Maz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lderas form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54240" y="152280"/>
            <a:ext cx="1717560" cy="6629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55560" y="2286000"/>
            <a:ext cx="564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eruptions occu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ly empty mag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ber collapses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dera eventually fill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ypes of Volcano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nder-c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3073320"/>
            <a:ext cx="1193760" cy="73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34120" y="4152960"/>
            <a:ext cx="193032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191120" y="1981080"/>
            <a:ext cx="41907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hield Volcano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una Loa, Hawai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 the backgro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226280" cy="292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26240" y="5486400"/>
            <a:ext cx="31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una Kea, a cinder c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ore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inder-cone volcanoe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icutan, Mex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una Kea, Hawai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elo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3967200"/>
            <a:ext cx="6477120" cy="2890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10080" y="1600200"/>
            <a:ext cx="32767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2:25:31Z</dcterms:created>
  <dc:creator>PA Department of Education</dc:creator>
  <dc:description/>
  <dc:language>en-US</dc:language>
  <cp:lastModifiedBy>PA Department of Education</cp:lastModifiedBy>
  <dcterms:modified xsi:type="dcterms:W3CDTF">2008-01-30T18:27:37Z</dcterms:modified>
  <cp:revision>17</cp:revision>
  <dc:subject/>
  <dc:title>Volcanic Activity</dc:title>
</cp:coreProperties>
</file>